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C94-3C2A-4D9C-8652-9E9714C2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1C5D-F1C7-4275-B70A-FD63965F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F65-6EF5-44BD-A653-17846D60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625-CE6D-4AF3-A65A-FE428EAE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88B1-0BF4-4C7F-A3F8-62D48BD8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7A6-BD2D-4189-81D4-86102416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96C-46E9-4921-9632-8443FA56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8D27-4FBA-492E-9B67-5469A22D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162-5F45-4220-B2A6-76BF1011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EC8-72A8-4780-B882-9D91CCBD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733-7B81-4EB3-9321-16B820D4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ADB-2B8E-4001-B9FA-87E5C7E3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7962-8D03-4D60-ACEF-2567950B6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6,1,Slide 1" TargetMode="External"/><Relationship Id="rId2" Type="http://schemas.openxmlformats.org/officeDocument/2006/relationships/hyperlink" Target="256,1,Slide 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229360"/>
            <a:ext cx="7918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6197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arhivurokov.ru/kopilka/uploads/user_file_55055eeba62f7/img_user_file_55055eeba62f7_3.jpg"/>
          <p:cNvPicPr/>
          <p:nvPr/>
        </p:nvPicPr>
        <p:blipFill>
          <a:blip r:embed="rId1"/>
          <a:stretch/>
        </p:blipFill>
        <p:spPr>
          <a:xfrm>
            <a:off x="257040" y="166680"/>
            <a:ext cx="8634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7920" y="260280"/>
            <a:ext cx="8510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Ис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Все спортсмены, которые бегали на короткие дистанции до 1887 года стартовали всегда в вертикальном положении. Однажды Чарльз Шерилл решил стартовать с низкого старта. Такое странное решение было очень необычным и вызвало у публики смех, но Чарльз Шерилл, не обращая внимания на смех зрителей, все же стартовал из такой позиции. К большому удивлению, он занял тогда первое место. А идею стартовать подобным образом, спортсмен подсмотрел у животных. Они всегда перед тем, как сделать рывок немного приседают. Такое решение помогает уменьшить сопротивление воздуха на старте, ведь площадь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тела достаточно больша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2272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Times New Roman"/>
              </a:rPr>
              <a:t>Существуют три варианта низкого ст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бычный»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«сближенны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«растянут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4"/>
          <p:cNvCxnSpPr/>
          <p:nvPr/>
        </p:nvCxnSpPr>
        <p:spPr>
          <a:xfrm flipH="1">
            <a:off x="1834920" y="1844640"/>
            <a:ext cx="721440" cy="115344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7" name="Прямая со стрелкой 6"/>
          <p:cNvCxnSpPr/>
          <p:nvPr/>
        </p:nvCxnSpPr>
        <p:spPr>
          <a:xfrm flipH="1">
            <a:off x="3924000" y="1844280"/>
            <a:ext cx="288000" cy="165636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8" name="Прямая со стрелкой 8"/>
          <p:cNvCxnSpPr/>
          <p:nvPr/>
        </p:nvCxnSpPr>
        <p:spPr>
          <a:xfrm>
            <a:off x="6011640" y="1771200"/>
            <a:ext cx="1081800" cy="158508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pic>
        <p:nvPicPr>
          <p:cNvPr id="49" name="Picture 8" descr="http://sportwiki.to/images/7/7b/Legkay_atletika9.jpg"/>
          <p:cNvPicPr/>
          <p:nvPr/>
        </p:nvPicPr>
        <p:blipFill>
          <a:blip r:embed="rId3"/>
          <a:stretch/>
        </p:blipFill>
        <p:spPr>
          <a:xfrm>
            <a:off x="2681280" y="5435640"/>
            <a:ext cx="410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admin\Documents\фото низкий старт\48106_html_55b2b0e4.jpg"/>
          <p:cNvPicPr/>
          <p:nvPr/>
        </p:nvPicPr>
        <p:blipFill>
          <a:blip r:embed="rId1"/>
          <a:stretch/>
        </p:blipFill>
        <p:spPr>
          <a:xfrm>
            <a:off x="684360" y="189000"/>
            <a:ext cx="597528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admin\Documents\фото низкий старт\img14.jpg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539640" y="3500280"/>
            <a:ext cx="33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</a:rPr>
              <a:t>В обычном старте расстояние от линии старта до передней колодки составляет 1-1,5 стопы, до задней колодки 2,5 — 3 стопы. В растянутом старте до передней колодки 2—2,5 стопы, дo задней 3,5—3,75 стопы. В сближенном старте — 1 стопа и 2- 2,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netnado.ru/urok--40-min-cele-uroka-osvoite-tehniku-nizkogo-starta/29059_html_m564e4281.png"/>
          <p:cNvPicPr/>
          <p:nvPr/>
        </p:nvPicPr>
        <p:blipFill>
          <a:blip r:embed="rId1"/>
          <a:stretch/>
        </p:blipFill>
        <p:spPr>
          <a:xfrm>
            <a:off x="1476360" y="981000"/>
            <a:ext cx="7439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68360" y="549360"/>
            <a:ext cx="8207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Фазы  бега с низкого старта: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начало движения (стар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стартовый разг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бег по дистан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финиш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portwiki.to/images/thumb/4/46/Legkay_atletika12.jpg/250px-Legkay_atletika12.jpg"/>
          <p:cNvPicPr/>
          <p:nvPr/>
        </p:nvPicPr>
        <p:blipFill>
          <a:blip r:embed="rId1"/>
          <a:stretch/>
        </p:blipFill>
        <p:spPr>
          <a:xfrm>
            <a:off x="250920" y="260280"/>
            <a:ext cx="5400720" cy="1584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724360" y="47628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- Старт и стартовый раз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fs1.ppt4web.ru/images/95284/123593/640/img10.jpg"/>
          <p:cNvPicPr/>
          <p:nvPr/>
        </p:nvPicPr>
        <p:blipFill>
          <a:blip r:embed="rId2"/>
          <a:stretch/>
        </p:blipFill>
        <p:spPr>
          <a:xfrm>
            <a:off x="1042920" y="1916280"/>
            <a:ext cx="7201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900igr.net/up/datas/140075/024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25960" y="488880"/>
            <a:ext cx="35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Финиш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91960" y="1135080"/>
            <a:ext cx="455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1. Набранная на старте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не снижается до конца дист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2. Дистанция заканчивается финш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чер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3. После финиша, скорсть бегамну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нижать постеп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4. В связи с развитием техн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редств, финиширование спортсм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фиксируется с помощью фото и видео техники- фотофини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194440" y="1295280"/>
            <a:ext cx="3840120" cy="287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938840" y="4340160"/>
            <a:ext cx="35845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6:14Z</dcterms:created>
  <dc:creator>User</dc:creator>
  <dc:description/>
  <dc:language>en-US</dc:language>
  <cp:lastModifiedBy>Андрей</cp:lastModifiedBy>
  <dcterms:modified xsi:type="dcterms:W3CDTF">2020-05-24T20:13:35Z</dcterms:modified>
  <cp:revision>18</cp:revision>
  <dc:subject/>
  <dc:title>Техника прыжка в длину с разбе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838</vt:lpwstr>
  </property>
</Properties>
</file>